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0D1D-7945-4D69-821A-02F9A7CB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4C4-D498-4D14-8D75-D6AC8750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7F5A-51E2-4282-99A9-4C657C44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099D-F5E1-46EB-924E-5A6CDF27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8B8F-74EE-421B-B2DC-BD963D20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0472-8737-405A-8E1F-68527BBC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10A-9184-4463-B2D6-7F0ACEFA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13CC-CCE0-44EE-88D9-464C4131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1D1D-34C2-4564-945B-40D5FA63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88E-64A0-4407-BC13-472805B5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BE85-57A7-4562-A60C-65A24A5F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518F-F048-4C0A-BEB9-C5BF7D4D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A945-3453-4ABF-BED3-53A0059118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720" y="2209680"/>
            <a:ext cx="66135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tiologic F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e701"/>
                </a:solidFill>
                <a:latin typeface="Arial"/>
              </a:rPr>
              <a:t>Alternative Formul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201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1295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362320" y="2666880"/>
            <a:ext cx="39621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238880" cy="1016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76520" y="2743200"/>
            <a:ext cx="5790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71600" y="3048120"/>
            <a:ext cx="6553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696440" cy="12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3124080"/>
            <a:ext cx="6934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152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305560" cy="5410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34120" y="4495680"/>
            <a:ext cx="2895480" cy="1524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077320" y="4648320"/>
            <a:ext cx="761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5867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7816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9:44Z</dcterms:modified>
  <cp:revision>207</cp:revision>
  <dc:subject/>
  <dc:title>Slide 1</dc:title>
</cp:coreProperties>
</file>